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5C7-24E5-4ADD-9105-A58EFEC7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F82-F040-462C-8525-E0434A1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DDF-6D00-48F1-B39E-A185CB28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CFE-56E7-42AD-B132-69AFBBEB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B3B-4495-4D66-AB3B-C25B32A1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A59-7592-4F87-B92E-A1871E9B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139-8829-4C3D-9C50-C963EE78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A19-81BD-4AC4-81F3-ADF20DB3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705-A762-4473-A6C4-34FBBA66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2A9-5304-493C-972E-22C0E2F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065-5B8B-4DA7-8142-54E0011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CFC-1FF2-4764-B95C-DBB4FF1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DBD-D49C-419E-A05B-ECFFBA41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55632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369880" y="5791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ley Fig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369880" y="5791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ley Fig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7401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2369880" y="57913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ley Fig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6037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51:40Z</dcterms:created>
  <dc:creator>Joel R. Hallas</dc:creator>
  <dc:description/>
  <dc:language>en-US</dc:language>
  <cp:lastModifiedBy>Joel R. Hallas</cp:lastModifiedBy>
  <dcterms:modified xsi:type="dcterms:W3CDTF">2009-02-12T19:02:50Z</dcterms:modified>
  <cp:revision>3</cp:revision>
  <dc:subject/>
  <dc:title>Slide 1</dc:title>
</cp:coreProperties>
</file>